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79C77-CC8E-4BBB-94DC-E401BD2FD6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73C-B9F2-4320-97DF-79E113FB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B24-8306-4D52-BE50-F81A62F0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449-703A-4B50-82A6-162A611B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297-3A8D-458C-A67B-7EE19F3C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B4C-5D88-4B4B-9FFB-FFF6926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874-21C5-448E-ABF2-154D732F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292-4267-45E7-B08D-F9DD8DC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273-BABF-4811-852B-A395113A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95E-1554-4B54-8F75-295258B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97E-B6A3-4E8C-9865-03EE0C1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B90-B59C-4962-83CB-FA1A57E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F60-9AF5-42FE-8BA3-073BA49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49082-9719-4D13-AB62-0A7B2C0516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2" name=""/>
          <p:cNvSpPr txBox="1"/>
          <p:nvPr/>
        </p:nvSpPr>
        <p:spPr>
          <a:xfrm>
            <a:off x="1444680" y="-936720"/>
            <a:ext cx="6659640" cy="3543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A sogra e a nor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NORA E A SO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mulher casada, que tinha sogra,estava muito mal com ela, e uma á outra se tinham má vont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9640" y="1260360"/>
            <a:ext cx="4140360" cy="23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rtaram de mandar a esta mulher certas cousas de doce, entre as quais vinha uma mulher, feita espé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39280" y="6892920"/>
            <a:ext cx="4587840" cy="444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94000" y="5040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disse quem as trazia, que aquela era a figura de sua sog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19640" y="1079640"/>
            <a:ext cx="3751200" cy="1590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a partiu uma migalha, que meteu na boca, e  tornando-a a cuspir, disse: Basta que é sogra, que até de açúcar ama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NORA E A SO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90152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